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8BE-2D58-4986-909D-2DA4971B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B6C-F8CF-486D-8BDD-85932E3F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F39-B67F-4096-803B-E2538068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A07B-5290-42A1-90EC-7A5A0F9C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E75-C69A-4C28-8541-707F0CF2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BAE-8FA8-4A0C-BF10-7911D8DB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55DB-9EE0-4AE7-9FAC-90AB2DA9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DCF-D6F0-4BB1-81D3-62C5D097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23F-1AC3-46B1-98B2-69C26DFD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F542-C19E-4E47-885C-31D1455C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F34-6047-4CFB-BAB8-D01370C2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F82-4F65-4D4C-A142-EC5257ED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4D34-10BD-4B81-A558-8E3F4E001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hotoshopy.net/user/pushkinmdv/news/page/18/" TargetMode="External"/><Relationship Id="rId2" Type="http://schemas.openxmlformats.org/officeDocument/2006/relationships/hyperlink" Target="http://photoshopy.net/user/pushkinmdv/news/page/18/" TargetMode="External"/><Relationship Id="rId3" Type="http://schemas.openxmlformats.org/officeDocument/2006/relationships/hyperlink" Target="http://photoshopy.net/user/pushkinmdv/news/page/18/" TargetMode="External"/><Relationship Id="rId4" Type="http://schemas.openxmlformats.org/officeDocument/2006/relationships/hyperlink" Target="http://photoshopy.net/user/pushkinmdv/news/page/18/" TargetMode="External"/><Relationship Id="rId5" Type="http://schemas.openxmlformats.org/officeDocument/2006/relationships/hyperlink" Target="http://photoshopy.net/user/pushkinmdv/news/page/18/" TargetMode="External"/><Relationship Id="rId6" Type="http://schemas.openxmlformats.org/officeDocument/2006/relationships/hyperlink" Target="http://photoshopy.net/user/pushkinmdv/news/page/18/" TargetMode="External"/><Relationship Id="rId7" Type="http://schemas.openxmlformats.org/officeDocument/2006/relationships/hyperlink" Target="http://photoshopy.net/user/pushkinmdv/news/page/18/" TargetMode="External"/><Relationship Id="rId8" Type="http://schemas.openxmlformats.org/officeDocument/2006/relationships/hyperlink" Target="http://photoshopy.net/user/pushkinmdv/news/page/18/" TargetMode="External"/><Relationship Id="rId9" Type="http://schemas.openxmlformats.org/officeDocument/2006/relationships/hyperlink" Target="http://photoshopy.net/user/pushkinmdv/news/page/18/" TargetMode="External"/><Relationship Id="rId10" Type="http://schemas.openxmlformats.org/officeDocument/2006/relationships/hyperlink" Target="http://photoshopy.net/user/pushkinmdv/news/page/18/" TargetMode="External"/><Relationship Id="rId11" Type="http://schemas.openxmlformats.org/officeDocument/2006/relationships/hyperlink" Target="http://photoshopy.net/user/pushkinmdv/news/page/18/" TargetMode="External"/><Relationship Id="rId12" Type="http://schemas.openxmlformats.org/officeDocument/2006/relationships/hyperlink" Target="http://photoshopy.net/user/pushkinmdv/news/page/18/" TargetMode="External"/><Relationship Id="rId13" Type="http://schemas.openxmlformats.org/officeDocument/2006/relationships/hyperlink" Target="http://www.artsides.ru/big/item_5461.jpg" TargetMode="External"/><Relationship Id="rId14" Type="http://schemas.openxmlformats.org/officeDocument/2006/relationships/hyperlink" Target="http://www.artsides.ru/big/item_5461.jpg" TargetMode="External"/><Relationship Id="rId15" Type="http://schemas.openxmlformats.org/officeDocument/2006/relationships/hyperlink" Target="http://www.artsides.ru/big/item_5461.jpg" TargetMode="External"/><Relationship Id="rId16" Type="http://schemas.openxmlformats.org/officeDocument/2006/relationships/hyperlink" Target="http://www.artsides.ru/big/item_5461.jpg" TargetMode="External"/><Relationship Id="rId17" Type="http://schemas.openxmlformats.org/officeDocument/2006/relationships/hyperlink" Target="http://www.artsides.ru/big/item_5461.jpg" TargetMode="External"/><Relationship Id="rId18" Type="http://schemas.openxmlformats.org/officeDocument/2006/relationships/hyperlink" Target="http://www.artsides.ru/big/item_5461.jpg" TargetMode="External"/><Relationship Id="rId19" Type="http://schemas.openxmlformats.org/officeDocument/2006/relationships/hyperlink" Target="http://photoshablon.ru/news/33-0-15" TargetMode="External"/><Relationship Id="rId20" Type="http://schemas.openxmlformats.org/officeDocument/2006/relationships/hyperlink" Target="http://photoshablon.ru/news/33-0-15" TargetMode="External"/><Relationship Id="rId21" Type="http://schemas.openxmlformats.org/officeDocument/2006/relationships/hyperlink" Target="http://photoshablon.ru/news/33-0-15" TargetMode="External"/><Relationship Id="rId22" Type="http://schemas.openxmlformats.org/officeDocument/2006/relationships/hyperlink" Target="http://photoshablon.ru/news/33-0-15" TargetMode="External"/><Relationship Id="rId23" Type="http://schemas.openxmlformats.org/officeDocument/2006/relationships/hyperlink" Target="http://photoshablon.ru/news/33-0-15" TargetMode="External"/><Relationship Id="rId24" Type="http://schemas.openxmlformats.org/officeDocument/2006/relationships/hyperlink" Target="http://photoshablon.ru/news/33-0-15" TargetMode="External"/><Relationship Id="rId2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843280" y="5733720"/>
            <a:ext cx="59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2100"/>
                </a:solidFill>
                <a:latin typeface="Arial"/>
              </a:rPr>
              <a:t>Бородина Т. А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21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2100"/>
                </a:solidFill>
                <a:latin typeface="Arial"/>
              </a:rPr>
              <a:t>ОУ СОШ №3 «ОЦ»  г. Сызр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5280" y="1244520"/>
            <a:ext cx="5800680" cy="744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6633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Физкультминутка</a:t>
            </a:r>
            <a:endParaRPr b="1" lang="en-US" sz="4400" spc="1" strike="noStrike">
              <a:ln w="15840">
                <a:solidFill>
                  <a:srgbClr val="6633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15960" y="390348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Комплекс упражнений </a:t>
            </a:r>
            <a:br>
              <a:rPr sz="4000"/>
            </a:b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для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977080" cy="383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2268360"/>
            <a:ext cx="1224000" cy="2349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920000" y="4508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920000" y="2276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920000" y="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79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345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111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3363840" y="4818240"/>
            <a:ext cx="2414520" cy="2039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5724360" y="5634000"/>
            <a:ext cx="234972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3397320" y="563400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1042920" y="5634000"/>
            <a:ext cx="2349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35" repeatCount="10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500"/>
                            </p:stCondLst>
                            <p:childTnLst>
                              <p:par>
                                <p:cTn id="6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5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25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3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7500"/>
                            </p:stCondLst>
                            <p:childTnLst>
                              <p:par>
                                <p:cTn id="123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88889E-006 8.09623E-007 L -0.00174 -0.70113 E">
                                      <p:cBhvr>
                                        <p:cTn id="1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6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27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6500"/>
                            </p:stCondLst>
                            <p:childTnLst>
                              <p:par>
                                <p:cTn id="129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30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1500"/>
                            </p:stCondLst>
                            <p:childTnLst>
                              <p:par>
                                <p:cTn id="132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33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6500"/>
                            </p:stCondLst>
                            <p:childTnLst>
                              <p:par>
                                <p:cTn id="135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3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1500"/>
                            </p:stCondLst>
                            <p:childTnLst>
                              <p:par>
                                <p:cTn id="138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3 L -0.00174 0.01226 E">
                                      <p:cBhvr>
                                        <p:cTn id="139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6500"/>
                            </p:stCondLst>
                            <p:childTnLst>
                              <p:par>
                                <p:cTn id="141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42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5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45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6500"/>
                            </p:stCondLst>
                            <p:childTnLst>
                              <p:par>
                                <p:cTn id="147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2.42887E-007 L 0 -0.70298 E">
                                      <p:cBhvr>
                                        <p:cTn id="148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1500"/>
                            </p:stCondLst>
                            <p:childTnLst>
                              <p:par>
                                <p:cTn id="150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51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6500"/>
                            </p:stCondLst>
                            <p:childTnLst>
                              <p:par>
                                <p:cTn id="1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055520"/>
            <a:ext cx="1941480" cy="4745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948360" y="1055520"/>
            <a:ext cx="1941480" cy="4745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95640" y="1052640"/>
            <a:ext cx="4752720" cy="4752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835280" y="333360"/>
            <a:ext cx="1419120" cy="1463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35280" y="333360"/>
            <a:ext cx="14191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9" nodeType="afterEffect" fill="hold" presetClass="path" presetID="1" repeatCount="5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217 -0.0613 C 0.39062 -0.0613 0.52882 0.12213 0.52882 0.3479 C 0.52882 0.57275 0.39062 0.75665 0.2217 0.75665 C 0.05226 0.75665 -0.08542 0.57275 -0.08542 0.3479 C -0.08542 0.12213 0.05226 -0.0613 0.2217 -0.0613 Z">
                                      <p:cBhvr>
                                        <p:cTn id="230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8" repeatCount="5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3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8500"/>
                            </p:stCondLst>
                            <p:childTnLst>
                              <p:par>
                                <p:cTn id="23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9500"/>
                            </p:stCondLst>
                            <p:childTnLst>
                              <p:par>
                                <p:cTn id="23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1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7 -0.0613 C 0.39062 -0.0613 0.52882 0.12213 0.52882 0.3479 C 0.52882 0.57275 0.39062 0.75665 0.2217 0.75665 C 0.05226 0.75665 -0.08542 0.57275 -0.08542 0.3479 C -0.08542 0.12213 0.05226 -0.0613 0.2217 -0.0613 Z">
                                      <p:cBhvr>
                                        <p:cTn id="242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45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0"/>
                            </p:stCondLst>
                            <p:childTnLst>
                              <p:par>
                                <p:cTn id="250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8486" r="0" b="0"/>
          <a:stretch/>
        </p:blipFill>
        <p:spPr>
          <a:xfrm>
            <a:off x="1851120" y="2043000"/>
            <a:ext cx="5441760" cy="2772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8000" y="2492280"/>
            <a:ext cx="2016000" cy="1832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286080" y="26028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300720" y="18900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867280" y="220500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84360" y="2708280"/>
            <a:ext cx="2571480" cy="1942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2700360" y="436572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5003640" y="400536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0" y="472428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3059280" y="2637000"/>
            <a:ext cx="2571480" cy="194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4356000" y="47628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>
            <a:off x="1619280" y="40464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>
            <a:off x="6372360" y="4915080"/>
            <a:ext cx="25714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500"/>
                            </p:stCondLst>
                            <p:childTnLst>
                              <p:par>
                                <p:cTn id="269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2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3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5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9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1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2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84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500"/>
                            </p:stCondLst>
                            <p:childTnLst>
                              <p:par>
                                <p:cTn id="287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8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90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91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path" presetID="26" repeatCount="5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38889E-006 -0.0007 C 1.38889E-006 0.07795 0.08177 0.14318 0.1816 0.14318 C 0.29913 0.14318 0.34167 0.07124 0.35955 0.02775 L 0.37795 -0.02938 C 0.39618 -0.07264 0.44132 -0.14389 0.57413 -0.14389 C 0.6592 -0.14389 0.7559 -0.07935 0.7559 -0.0007 C 0.7559 0.07795 0.6592 0.14318 0.57413 0.14318 C 0.44132 0.14318 0.39618 0.07124 0.37795 0.02775 L 0.35955 -0.02938 C 0.34167 -0.07264 0.29913 -0.14389 0.1816 -0.14389 C 0.08177 -0.14389 1.38889E-006 -0.07935 1.38889E-006 -0.0007 Z">
                                      <p:cBhvr>
                                        <p:cTn id="302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55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55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6000"/>
                            </p:stCondLst>
                            <p:childTnLst>
                              <p:par>
                                <p:cTn id="3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6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6500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65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7000"/>
                            </p:stCondLst>
                            <p:childTnLst>
                              <p:par>
                                <p:cTn id="3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7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75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75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80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8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8500"/>
                            </p:stCondLst>
                            <p:childTnLst>
                              <p:par>
                                <p:cTn id="3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9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9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0000"/>
                            </p:stCondLst>
                            <p:childTnLst>
                              <p:par>
                                <p:cTn id="3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0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5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5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1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1500"/>
                            </p:stCondLst>
                            <p:childTnLst>
                              <p:par>
                                <p:cTn id="4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1447920"/>
            <a:ext cx="2102040" cy="396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530520" y="472428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530520" y="-10008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1023840" cy="2413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957480" y="2544840"/>
            <a:ext cx="1229040" cy="1766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859280" y="260280"/>
            <a:ext cx="3960720" cy="2160720"/>
          </a:xfrm>
          <a:prstGeom prst="cloudCallout">
            <a:avLst>
              <a:gd name="adj1" fmla="val -38175"/>
              <a:gd name="adj2" fmla="val 68000"/>
            </a:avLst>
          </a:prstGeom>
          <a:solidFill>
            <a:srgbClr val="ffd393"/>
          </a:solidFill>
          <a:ln w="9360">
            <a:solidFill>
              <a:srgbClr val="66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БЕРЕГ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ЗРЕ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path" presetID="37" repeatCount="1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16667E-006 -3.01874E-006 L 0.19271 0.15406 C 0.23316 0.18992 0.29375 0.20981 0.35678 0.20981 C 0.42865 0.20981 0.48629 0.18992 0.52674 0.15406 L 0.71962 -3.01874E-006 E">
                                      <p:cBhvr>
                                        <p:cTn id="42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71 -0.15521 C 0.23316 -0.19038 0.29375 -0.20957 0.3566 -0.20957 C 0.42864 -0.20957 0.48611 -0.19038 0.52656 -0.15521 L 0.71962 0.00023 E">
                                      <p:cBhvr>
                                        <p:cTn id="42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500"/>
                            </p:stCondLst>
                            <p:childTnLst>
                              <p:par>
                                <p:cTn id="428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2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1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3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4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3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500"/>
                            </p:stCondLst>
                            <p:childTnLst>
                              <p:par>
                                <p:cTn id="437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45 C 0.23333 -0.19038 0.29375 -0.20957 0.35677 -0.20957 C 0.42882 -0.20957 0.48628 -0.19038 0.52673 -0.15545 L 0.71979 0.00023 E">
                                      <p:cBhvr>
                                        <p:cTn id="43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0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4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8500"/>
                            </p:stCondLst>
                            <p:childTnLst>
                              <p:par>
                                <p:cTn id="443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4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2500"/>
                            </p:stCondLst>
                            <p:childTnLst>
                              <p:par>
                                <p:cTn id="446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71 0.15522 C 0.23333 0.19038 0.29375 0.21004 0.35677 0.21004 C 0.42864 0.21004 0.48611 0.19038 0.52673 0.15522 L 0.71979 0.00023 E">
                                      <p:cBhvr>
                                        <p:cTn id="44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6500"/>
                            </p:stCondLst>
                            <p:childTnLst>
                              <p:par>
                                <p:cTn id="449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50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1000"/>
                            </p:stCondLst>
                            <p:childTnLst>
                              <p:par>
                                <p:cTn id="4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56836E-006 L 0.00017 -0.71154 E">
                                      <p:cBhvr>
                                        <p:cTn id="461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3000"/>
                            </p:stCondLst>
                            <p:childTnLst>
                              <p:par>
                                <p:cTn id="4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71154 L 0.00017 0.01249 E">
                                      <p:cBhvr>
                                        <p:cTn id="46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50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0"/>
                            </p:stCondLst>
                            <p:childTnLst>
                              <p:par>
                                <p:cTn id="4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452E-006 L 0.78003 0.00185 E">
                                      <p:cBhvr>
                                        <p:cTn id="47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7000"/>
                            </p:stCondLst>
                            <p:childTnLst>
                              <p:par>
                                <p:cTn id="4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003 0.00185 L 0.00034 0.00185 E">
                                      <p:cBhvr>
                                        <p:cTn id="47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9000"/>
                            </p:stCondLst>
                            <p:childTnLst>
                              <p:par>
                                <p:cTn id="4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9000"/>
                            </p:stCondLst>
                            <p:childTnLst>
                              <p:par>
                                <p:cTn id="48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7837E-006 C 0.15486 4.47837E-006 0.28073 0.16192 0.28073 0.36155 C 0.28073 0.56141 0.15486 0.72403 2.22222E-006 0.72403 C -0.15469 0.72403 -0.28004 0.56141 -0.28004 0.36155 C -0.28004 0.16192 -0.15469 4.47837E-006 2.22222E-006 4.47837E-006 Z">
                                      <p:cBhvr>
                                        <p:cTn id="483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2500"/>
                            </p:stCondLst>
                            <p:childTnLst>
                              <p:par>
                                <p:cTn id="494" nodeType="afterEffect" fill="hold" presetClass="path" presetID="7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675E-006 L 0.81823 -1.21675E-006 L 0.81823 0.548 L 5.55556E-007 0.548 L 5.55556E-007 -1.21675E-006 Z">
                                      <p:cBhvr>
                                        <p:cTn id="495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77500"/>
                            </p:stCondLst>
                            <p:childTnLst>
                              <p:par>
                                <p:cTn id="497" nodeType="afterEffect" fill="hold" presetClass="path" presetID="7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675E-006 L 0.81823 -1.21675E-006 L 0.81823 0.548 L 5.55556E-007 0.548 L 5.55556E-007 -1.21675E-006 Z">
                                      <p:cBhvr>
                                        <p:cTn id="498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2500"/>
                            </p:stCondLst>
                            <p:childTnLst>
                              <p:par>
                                <p:cTn id="5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3000"/>
                            </p:stCondLst>
                            <p:childTnLst>
                              <p:par>
                                <p:cTn id="5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50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6056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hotoshopy.net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user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ushkinmdv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new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page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18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egypt.goto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avel.ru/presentation/oboi/1280x960/oboi-egipta-1280x960-1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www.artsides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big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/item_5461.jp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photoshablon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new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/33-0-1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photoshablon.ru/news/29-0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dreamworlds.ru/uploads/posts/2009-09/1253596502_0_242ce_afc93ee0_xl.jp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уковая дорожка с дис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igmatic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33:58Z</dcterms:created>
  <dc:creator>User</dc:creator>
  <dc:description/>
  <dc:language>en-US</dc:language>
  <cp:lastModifiedBy>User</cp:lastModifiedBy>
  <dcterms:modified xsi:type="dcterms:W3CDTF">2011-03-08T20:31:29Z</dcterms:modified>
  <cp:revision>48</cp:revision>
  <dc:subject/>
  <dc:title>Слайд 1</dc:title>
</cp:coreProperties>
</file>